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EE76-48E5-46CD-9D64-A47A58EC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0FD-3ED7-4097-AACC-87703B55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2AE-647A-470F-9846-870EF586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79A6-B053-4A2A-89E8-A48CDFE4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050-C2F6-4EF5-91CC-01692DA4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EA48-DED5-4175-85E4-B58871FB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85C-9262-4C47-8703-7C857073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074-ABA3-457A-BE25-5C5A8C53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7CD1-F9CE-42C1-8421-350AB8A3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C25-55B0-4600-8456-614D192F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ADB-455B-43B2-BC21-A61C3EC5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BDE-A7CB-40BE-984E-93463E1A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0238-0468-416E-8FDD-EA0802A05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nal Project – Part 1: Th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ontent Placeholder 2"/>
          <p:cNvSpPr/>
          <p:nvPr/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st a minimum of 50 things you use in a da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verything from the alarm clock that wakes you up to the plate your dinner was 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re than 60 is considered Advanced (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f you repeat, only count it once towards your 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hat is the primary natural resource that is used to mak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is might take a little research for some i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ke sure you are actually putting down a natural resources (wood and plastic are not natural resourc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ow long do you use it until you replace or dispose of it (days, weeks, months, years)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ow can you Reduce, Reuse or Recycl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 is there a more environmentally friendly alternativ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3:40:27Z</dcterms:created>
  <dc:creator>Cari Schruth</dc:creator>
  <dc:description/>
  <dc:language>en-US</dc:language>
  <cp:lastModifiedBy>Cari Schruth</cp:lastModifiedBy>
  <dcterms:modified xsi:type="dcterms:W3CDTF">2010-01-14T03:51:52Z</dcterms:modified>
  <cp:revision>2</cp:revision>
  <dc:subject/>
  <dc:title>PowerPoint Presentation</dc:title>
</cp:coreProperties>
</file>